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139-EB9E-41E1-94BB-51AA0CF8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DF4-997C-4793-8910-C001066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3C5-EDF8-40ED-82F1-C01D21EC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698-B8D3-4774-9193-2C71F53D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531-CE15-465C-993D-D2BC4C1E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BD1-F187-49DB-9665-A4BF88D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C38-FA9B-4DEE-BB34-1692E8E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927-058D-4DD6-87B1-9CFAD11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6ED-8882-409F-90E3-CCE98E80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D5E-91EE-48FC-80BB-4C3BB84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CBF-EE76-49E8-9AFB-D59D62A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57A-9F21-4096-8846-37402BA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203-77CF-4172-B9CD-8479CDAE830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Global Climat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ve 66.5 in both hemispheres a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ar Region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are very c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receive sunlight for only half the year due to the angle of the Earth on its ro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months when they do have sunlight, it travels to them at a very shallow angle, meaning that it has to travel through a lot of the atmosphere and has to heat a wide area of the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any areas beside the sea are affected by ocean current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can be either warm or cold current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United Kingdom is directly in the path of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Gulf Stream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orthern Atlantic Stream,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which bring warm water from the Caribbean across the Atlantic to our shor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current alone is the reason why our climate is mild compared to places of similar latitude like Newfoundlan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evailing W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prevailing (most common) wind in the United Kingdom comes form the South Wes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a prevailing wind travels over a warm surface it will bring warm weather, whilst if it travels over a cold surface it will bring cold weath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outh-westerly winds in Britain travel across the Atlantic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the summer this means that the air is cooled, whilst in the winter the water warms the air, bringing warmer winters than we might expec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Global Distribution Of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limat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describes the temperature, precipitation, and other weather conditions of a certain area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climate of an area describes how these variables may be over a long period, for instance the South of France in the summer is hot and dr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this is not always the case as there are some days when it is raining and fairly coo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daily changes do not affect the overall climate of the area, and are described as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eather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of the area for that da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orld Cl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metoffice.gov.uk/education/teachers/images/worldclimate.gif"/>
          <p:cNvPicPr/>
          <p:nvPr/>
        </p:nvPicPr>
        <p:blipFill>
          <a:blip r:embed="rId1"/>
          <a:stretch/>
        </p:blipFill>
        <p:spPr>
          <a:xfrm>
            <a:off x="179280" y="1230480"/>
            <a:ext cx="885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Affecting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Distance From The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evailing W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emperature falls the higher you ar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loss in temperature is approximately 10°C for every kilometre you ris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fall in temperature with height is due to the fact that the air at higher altitudes is thinn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fewer molecules available to receive and retain hea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Wind chill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ay also mean that the temperatures in upland areas are lower than expect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relates to the direction in which a place is facing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pect only really affects local climate, not global on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the Northern Hemisphere, south facing slopes receive far more sunlight than north facing on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are therefore much better for agriculture and often settlement will locate there due to the better aspe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tance From The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ea can have a great influence over climates in maritime reg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ea takes much longer to heat up but retains that heat far better than the lan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equently the land is often warmer than the sea during the day, however the situation is reversed at nigh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means that places like Britain, which are near the sea, have relatively cool days and warm nights, as well as warm summers and mild winte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influence of the sea diminishes as you move further inland, for instance to central Europe, where warmer winters and cooler summers will be experienc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tude on global clim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s of Latitude are those that run horizontally around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famous line of latitude is the Equ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lines of latitude we can easily divide the world in to specific climatic s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23.5 South and 23.5 North is the region called 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opic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receive the most heat from the sun because it is almost directly overhead and so the solar radiation does not have to travel through very much of the atmosphe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heats a very concentrated area of the surface of the groun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23.5 and 66.5 in both the Northern and Southern Hemispheres are 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emperat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eg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have reasonably hot summers and mild win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8:21:27Z</dcterms:created>
  <dc:creator>Dell_02</dc:creator>
  <dc:description/>
  <dc:language>en-US</dc:language>
  <cp:lastModifiedBy>Dell_02</cp:lastModifiedBy>
  <dcterms:modified xsi:type="dcterms:W3CDTF">2011-01-27T18:51:15Z</dcterms:modified>
  <cp:revision>3</cp:revision>
  <dc:subject/>
  <dc:title>Global Climates</dc:title>
</cp:coreProperties>
</file>